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0D2-8BB0-4A01-9230-BEF189BA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- 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0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1- structure: comités 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2- structure: Conseil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3- structure: com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4- président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5- président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6- Yvonne de Wergifo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7- com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8- Mouvement Europé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9- personnalité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- 1946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0- personnalité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1- personnalité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2- personnalité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3-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4- publications: fin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5- publications: économique et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6- publications: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7- publications: infrastructures/envir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8- publications: élargis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9- publications: institut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- fond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0- Cahier Boë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1- Cahier Boë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2- Cahier Boë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3-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4-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5-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4- «La Ligue c’est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5- mission 19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6- miss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7- «La Ligue rassembl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8- «La Ligue se veut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9- «La Ligue agit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D24-03B4-435E-8FE9-81A02744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4A3-16D2-4004-A26C-68C23BC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408-9FAF-42AD-9D72-BDB28565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571-6A3D-436A-8785-095EE69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89A-9503-48F3-A699-DADF1191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E320-379C-4EE8-83E7-694FC6CD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DAE7-A6BB-4206-8470-5F3D2438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92B4-0C50-43AC-91AA-DB6DDBB4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D8AF-4615-4472-A2F4-518E5EEF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D0E-2135-4D81-89D0-9FBACE7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B07-A076-45C0-A338-F3FCD1C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438-489B-42D8-BC4D-0C02F6E8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D7D-D6EC-4155-B700-07FB222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DAF-3C8D-4C5B-8FA5-02E6870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D57-7CA7-4E72-9A1A-ACCE16C5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C1EF-A103-4FA6-A3E7-8AF1CC08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704-CFC8-41A2-9CA1-A77EEBC8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F3C-83D9-4171-822B-7EA6F88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B79-B7C2-487E-814C-2D73FC5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A97-514B-4343-8B27-D3564706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BB7-AFDB-4C48-9A2F-CCFD420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9C2-17AB-4E09-9CBB-7398AC6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AAD-3962-469C-A323-9318E8E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3D2-1AA3-4484-834F-2A5A1D27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1DF-51DC-4A6C-B631-895A945710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EF1F-3C8C-4769-A0E4-C9993E5637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826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Ligue Européenne de</a:t>
            </a:r>
            <a:br>
              <a:rPr sz="4000"/>
            </a:b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Coopération Économique</a:t>
            </a:r>
            <a:br>
              <a:rPr sz="4000"/>
            </a:br>
            <a:r>
              <a:rPr b="1" lang="fr-BE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BE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BE" sz="4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European League for</a:t>
            </a:r>
            <a:br>
              <a:rPr sz="4000"/>
            </a:b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Economic Cooper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3640" y="4220640"/>
            <a:ext cx="856908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60</a:t>
            </a:r>
            <a:r>
              <a:rPr b="1" lang="fr-BE" sz="4000" spc="-1" strike="noStrike" baseline="30000">
                <a:solidFill>
                  <a:srgbClr val="99ccff"/>
                </a:solidFill>
                <a:latin typeface="Tahoma"/>
              </a:rPr>
              <a:t>me</a:t>
            </a: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 annivers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60</a:t>
            </a:r>
            <a:r>
              <a:rPr b="1" i="1" lang="fr-BE" sz="4000" spc="-1" strike="noStrike" baseline="30000">
                <a:solidFill>
                  <a:srgbClr val="ccffcc"/>
                </a:solidFill>
                <a:latin typeface="Tahoma"/>
              </a:rPr>
              <a:t>th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 annivers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ffcc"/>
                </a:solidFill>
                <a:latin typeface="Verdana"/>
              </a:rPr>
              <a:t>                </a:t>
            </a:r>
            <a:r>
              <a:rPr b="1" i="1" lang="en-US" sz="800" spc="-1" strike="noStrike">
                <a:solidFill>
                  <a:srgbClr val="0066ff"/>
                </a:solidFill>
                <a:latin typeface="Verdana"/>
              </a:rPr>
              <a:t>© A. Bandin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Sa structure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Its structure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92000" y="1844640"/>
            <a:ext cx="6551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mités natio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national s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nseil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Central Counc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mmissions de trav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working com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omités nationaux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National section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forment un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réseau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, base de la L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form a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network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, basis of ELE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organisent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activité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pour leurs memb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organiz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activitie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for their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prennent en charge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projets europé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ccffcc"/>
                </a:solidFill>
                <a:latin typeface="Tahoma"/>
              </a:rPr>
              <a:t>take responsibility for </a:t>
            </a:r>
            <a:r>
              <a:rPr b="1" i="1" lang="en-GB" sz="2400" spc="-1" strike="noStrike">
                <a:solidFill>
                  <a:srgbClr val="ccffcc"/>
                </a:solidFill>
                <a:latin typeface="Tahoma"/>
              </a:rPr>
              <a:t>European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envoient des délégués aux réunions d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m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send delegates to 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commissions’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onseil Central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Central Council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8066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instance dirige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ffcc"/>
                </a:solidFill>
                <a:latin typeface="Tahoma"/>
              </a:rPr>
              <a:t>      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managing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réunit l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présidents des comités natio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gathers together 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national sections’ presi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et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membres individu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    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choisis pour leur engagement europé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nd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dividual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selected for their European commi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ommissions de travail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Working commission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9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Agriculture &amp; Société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griculture &amp;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Économique et Sociale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Economic &amp; 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Infra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Voisinage 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Neighbourh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Méditerranée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Mediterran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Monétaire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Monet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qui proposent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prises de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which present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positions pa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es président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The president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26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ul van ZEE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46 – 194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ieter KERST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né BOË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51 – 198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ean-Charles SNOY et d'OPPU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82 – 19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1247760" cy="169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1487520" cy="1865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162720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7533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niel CARDON de LICHTBU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ésident 1985 –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rdinand CHAFFA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ésident 2000 – 20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ton van ROSS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ésident 2006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1901880" cy="2378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16720" y="2708280"/>
            <a:ext cx="1609560" cy="2236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924360" y="4724280"/>
            <a:ext cx="1573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Yvonne de Wergifosse</a:t>
            </a:r>
            <a:br>
              <a:rPr sz="2400"/>
            </a:b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Secrétaire général de la Ligue</a:t>
            </a:r>
            <a:br>
              <a:rPr sz="2400"/>
            </a:b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 1962 </a:t>
            </a:r>
            <a:r>
              <a:rPr b="1" lang="en-US" sz="24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 1988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53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Ligue, et je m'en réjouis, a enc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 pain sur la planch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tes-vous bien d'ailleurs que lors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'ai eu 60 ans, comme la L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jourd'hui, je ne songeais pas à 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aite: je me suis occupée de la L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dant plus de quinze ans encore!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novembre 200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954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Tahoma"/>
              </a:rPr>
              <a:t>Les premiers comités nationaux</a:t>
            </a:r>
            <a:br>
              <a:rPr sz="3200"/>
            </a:br>
            <a:r>
              <a:rPr b="1" i="1" lang="en-US" sz="3200" spc="-1" strike="noStrike">
                <a:solidFill>
                  <a:srgbClr val="ccffcc"/>
                </a:solidFill>
                <a:latin typeface="Tahoma"/>
              </a:rPr>
              <a:t>The first national section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68000" y="1916280"/>
            <a:ext cx="6342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46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lgiqu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Belg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de Bretagn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reat Brit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xembour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48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ys-Bas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ether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emagn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ali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rich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ust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agn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9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iss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62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èd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65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vèg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or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1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9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4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8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Haye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The Hagu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a Ligu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membre fondateur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MOUVEMENT EUROPEEN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ELEC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founder member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f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EUROPEAN MOVEMENT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Quelques personnalités marquant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Some outstanding peop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6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uxelles, juin 19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Le marché commun, facteur de prospérité sociale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Conférence Internationale de la Lig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Paul KREB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crétaire général du comité allem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? M. BECH (Luxembourg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nistre des Affaires Étrangè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Paul van ZEELAND (Belgiqu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ondateur - Président d'honneur de la Lig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Paul Henri SPAAK (Belgiqu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Edward 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du comité britanniq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99ccff"/>
                </a:solidFill>
                <a:latin typeface="Tahoma"/>
              </a:rPr>
              <a:t>1946</a:t>
            </a: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 - </a:t>
            </a:r>
            <a:r>
              <a:rPr b="1" lang="fr-BE" sz="4400" spc="-1" strike="noStrike">
                <a:solidFill>
                  <a:srgbClr val="ccffcc"/>
                </a:solidFill>
                <a:latin typeface="Tahoma"/>
              </a:rPr>
              <a:t>200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71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99ccff"/>
                </a:solidFill>
                <a:latin typeface="Tahoma"/>
              </a:rPr>
              <a:t>La Ligue Européenne fête soixante ans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99ccff"/>
                </a:solidFill>
                <a:latin typeface="Tahoma"/>
              </a:rPr>
              <a:t>réflexion innovatrice</a:t>
            </a:r>
            <a:r>
              <a:rPr b="0" lang="fr-BE" sz="2800" spc="-1" strike="noStrike">
                <a:solidFill>
                  <a:srgbClr val="99ccff"/>
                </a:solidFill>
                <a:latin typeface="Tahoma"/>
              </a:rPr>
              <a:t> au service de 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99ccff"/>
                </a:solidFill>
                <a:latin typeface="Tahoma"/>
              </a:rPr>
              <a:t>cause européen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ccffcc"/>
                </a:solidFill>
                <a:latin typeface="Tahoma"/>
              </a:rPr>
              <a:t>ELEC celebrates sixty years of </a:t>
            </a:r>
            <a:r>
              <a:rPr b="1" i="1" lang="fr-BE" sz="2800" spc="-1" strike="noStrike">
                <a:solidFill>
                  <a:srgbClr val="ccffcc"/>
                </a:solidFill>
                <a:latin typeface="Tahoma"/>
              </a:rPr>
              <a:t>inno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ccffcc"/>
                </a:solidFill>
                <a:latin typeface="Tahoma"/>
              </a:rPr>
              <a:t>contribution</a:t>
            </a:r>
            <a:r>
              <a:rPr b="0" i="1" lang="fr-BE" sz="2800" spc="-1" strike="noStrike">
                <a:solidFill>
                  <a:srgbClr val="ccffcc"/>
                </a:solidFill>
                <a:latin typeface="Tahoma"/>
              </a:rPr>
              <a:t> to the </a:t>
            </a:r>
            <a:r>
              <a:rPr b="1" i="1" lang="fr-BE" sz="2800" spc="-1" strike="noStrike">
                <a:solidFill>
                  <a:srgbClr val="ccffcc"/>
                </a:solidFill>
                <a:latin typeface="Tahoma"/>
              </a:rPr>
              <a:t>European 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820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ussels, June 19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common market to promote social prosperity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ternational Conference of ELE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Edward 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 of the Britis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René BOËL, President of ELE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  Lucien SERM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Secretary General of the Frenc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Hermann AB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President of the German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Edmond GISCARD d’ESTA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Frenc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24656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uxelles, octobre 19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Les tâches prochaines de l'Europe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nférence Internation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Walt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HALLSTE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de la Commission de la C.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René BOËL, Président de la Lig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ward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      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Président du comité britanniq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600" spc="-1" strike="noStrike">
                <a:solidFill>
                  <a:srgbClr val="ccff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45370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152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russels, October 196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r-FR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annivers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Otmar EMMINGER - President of the Bundesba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Herman ABS - 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German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Louis CAMU - 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Belgian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Edward 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    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Britis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Henry TIARKS (Great Brita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182520" cy="1555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50036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99ccff"/>
                </a:solidFill>
                <a:latin typeface="Tahoma"/>
              </a:rPr>
              <a:t>PUBLIC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Depuis 1946, la Ligue apporte au débat européen u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contribution thématique novatrice</a:t>
            </a: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 sur les ques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Since 1946, ELEC has brought to the European debate 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innovative topical contribution</a:t>
            </a: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 on such matters 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financières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finan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économiques et sociales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economic and so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agricul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infrastruct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environnement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environm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élargissement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 enlar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institutionnel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 institu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ccff"/>
                </a:solidFill>
                <a:latin typeface="Tahoma"/>
              </a:rPr>
              <a:t>= 79 publications thématiques et 49 rap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ffcc"/>
                </a:solidFill>
                <a:latin typeface="Tahoma"/>
              </a:rPr>
              <a:t>= 79 thematic publications and 49 re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916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questions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financièr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financial</a:t>
            </a:r>
            <a:r>
              <a:rPr b="0" i="1" lang="fr-BE" sz="3200" spc="-1" strike="noStrike">
                <a:solidFill>
                  <a:srgbClr val="ccffcc"/>
                </a:solidFill>
                <a:latin typeface="Tahoma"/>
              </a:rPr>
              <a:t> matt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Un système de convertibilité des monna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uropéennes entre elles </a:t>
            </a: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1949</a:t>
            </a: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ers la liberté des transferts internationaux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evises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0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reconstruction monétaire de l'Europe et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 contribution au progrès économ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Monetary Reconstruction of Europe and its Contribution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conomic and Social Progress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3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fiscalité indirecte dans le marché commun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9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916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questions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économiques et social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conomic and social</a:t>
            </a:r>
            <a:r>
              <a:rPr b="0" i="1" lang="fr-BE" sz="3200" spc="-1" strike="noStrike">
                <a:solidFill>
                  <a:srgbClr val="ccffcc"/>
                </a:solidFill>
                <a:latin typeface="Tahoma"/>
              </a:rPr>
              <a:t> matt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mobilité des travailleurs en Europe occident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 marché commun facteur de prospérité soci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Common Market to Promote Social Prospe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l mercado comun factor de prospe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tégration européenne et sécurité soci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7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uropean Integration and Social Secu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a integracion europea y la segu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Migration des travailleurs et des activités 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ociétés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90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igration of Workers and Company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2438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Agri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cultur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064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'agriculture dans la formation du marché commun européen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2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Role of Agriculture in the Formation of a Single European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politique agricole dans la Communauté Economique Européenne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6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réforme de la PAC et ses répercus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ur le commerce international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86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Reform of the CAP and 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mplications for International Tr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Future for European Agricultu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9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3276360" cy="24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Infra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structures</a:t>
            </a:r>
            <a:br>
              <a:rPr sz="3200"/>
            </a:b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Environnement </a:t>
            </a: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'organisation des transports en Europe occident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poiltique commune des transports en Europ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69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The common Policy for Transport i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a politica comun de transportes en Europ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dimension européenne de la prot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e l'environnement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87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The European Dimension in Environmental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 Prot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6954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Élargissement</a:t>
            </a: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32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nlarge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s pays de l'Europe en voie de développement et l'intég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uropéenn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6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Developing Countries of Europe and European Integ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os paises de Europa en vias de desarrollo y la integracion europ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Les relations commerciales Est/Ouest (</a:t>
            </a: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1965</a:t>
            </a: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ff"/>
                </a:solidFill>
                <a:latin typeface="Tahoma"/>
              </a:rPr>
              <a:t>East-West Commercial Rel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blèmes institutionnels posés p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’élargissement des C.E.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67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Institutional Problems Arising from 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nlargement of the E.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32416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questions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institutionnell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institutional</a:t>
            </a:r>
            <a:r>
              <a:rPr b="0" i="1" lang="fr-BE" sz="3200" spc="-1" strike="noStrike">
                <a:solidFill>
                  <a:srgbClr val="ccffcc"/>
                </a:solidFill>
                <a:latin typeface="Tahoma"/>
              </a:rPr>
              <a:t> matt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8244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 une réforme du fonctionnement des institutions des C.E.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74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For a Reform of the Functionning of the E.C. Instit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relance économique en Europe - Le rô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imordial du Parlement européen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78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 new Economic Impetus for Europe - T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damental Role of the E.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'Europe des années quatre-vingts - L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combat de la LEC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8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urope in the Eighties - ELEC in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6193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1946 - les fondateur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1946 - the founding fath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80720"/>
            <a:ext cx="7638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ff"/>
                </a:solidFill>
                <a:latin typeface="Tahoma"/>
              </a:rPr>
              <a:t>de grands décideurs de leur temps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cffcc"/>
                </a:solidFill>
                <a:latin typeface="Tahoma"/>
              </a:rPr>
              <a:t>key leaders in their times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Joseph RETINGER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Polog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cien Conseiller du Général Sikorsk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Délégué Général aux Relations Extérie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du Mouvement Europé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cccc"/>
                </a:solidFill>
                <a:latin typeface="Tahoma"/>
              </a:rPr>
              <a:t>Initiateur de la L.E.C.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aul VAN ZEELAND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Belgiqu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Ancien Premier Minist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fr-FR" sz="1800" spc="-1" strike="noStrike">
                <a:solidFill>
                  <a:srgbClr val="ffcccc"/>
                </a:solidFill>
                <a:latin typeface="Tahoma"/>
              </a:rPr>
              <a:t>Fondateur et Président d'honne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ieter KERSTENS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Pays-Ba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Sénateur, ancien Ministre des Affaires Économiqu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03040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Cahiers Boë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epuis</a:t>
            </a: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since  </a:t>
            </a:r>
            <a:r>
              <a:rPr b="1" i="1" lang="fr-BE" sz="2400" spc="-1" strike="noStrike">
                <a:solidFill>
                  <a:srgbClr val="99ccff"/>
                </a:solidFill>
                <a:latin typeface="Tahoma"/>
              </a:rPr>
              <a:t>1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9</a:t>
            </a:r>
            <a:r>
              <a:rPr b="1" i="1" lang="fr-BE" sz="2400" spc="-1" strike="noStrike">
                <a:solidFill>
                  <a:srgbClr val="99ccff"/>
                </a:solidFill>
                <a:latin typeface="Tahoma"/>
              </a:rPr>
              <a:t>9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Publications sur des questions d’actualité européen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Éditées à la mémoire de René Boë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Président de la Ligue (1951-19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Publications on topical European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edited to honour the memory of René Boë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ELEC President (1951-19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2701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ahiers Boë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37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ransition Strategies tow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conomic and Monetary U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Institution Convergence: a Prerequi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Monetary U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he Future of Central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5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Un nouveau modèle social europé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A New European Social Mode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7054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280" y="980640"/>
            <a:ext cx="81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6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Dimension européenne du partenariat euro-méditerranéen 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uropean dimension of the Euro-Mediterranean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Small and Medium-Sized Enterprises in t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ntries of Central and Easter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he Euro: Next Steps to Su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9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The Enlarged EU: a Wider Role? /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'U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uropéenne élargie: un rôle plus lar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he Euro: Required Steps to Su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1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European Economic Governance revisi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12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Financial Supervision i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4350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Et maintenan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and now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Nous nous tournons, avec vous, vers les soixante prochaines années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We look forward, with you, to the next sixty years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Si vous voulez en savoir plu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If you want to learn mor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Tous ces documents sont disponibles sur notre 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All these documents are available on our web 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Ligue Européenne de Coopération Économ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European League for Economic Coope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348000" y="3716280"/>
            <a:ext cx="3105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</a:rPr>
              <a:t>www.elec-lece.eu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10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99ccff"/>
                </a:solidFill>
                <a:latin typeface="Tahoma"/>
              </a:rPr>
              <a:t>F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ccffcc"/>
                </a:solidFill>
                <a:latin typeface="Tahoma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c’es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is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un lieu de réflexion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 think-tank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un club socia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 social club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un réseau, un forum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 network, a forum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avant tout un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GROUPE de PRESSION INTELLECT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bove all an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TELLECTUAL PRESSURE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753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se donne pour mission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‘s mission is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2800" y="1981080"/>
            <a:ext cx="74595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1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9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4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promouvoir la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opération économiqu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afin de construire les fondements de la prospérité et offrir la possibilité de recréer une richesse collective dans une Europe divisée et ruinée par la guer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o foster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economic cooperation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with a view to build prosperity and offer opportunities to create collective wealth in a war torn and fragmented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753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600" spc="-1" strike="noStrike">
                <a:solidFill>
                  <a:srgbClr val="ccff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4944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2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0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0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6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contribuer à la création et au parachèvement d'un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marché uniqu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pour les biens, les services, l'énergie, ainsi qu'à l'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intégration des marchés financ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o </a:t>
            </a:r>
            <a:r>
              <a:rPr b="0" i="1" lang="en-US" sz="2400" spc="-1" strike="noStrike">
                <a:solidFill>
                  <a:srgbClr val="ccffcc"/>
                </a:solidFill>
                <a:latin typeface="Tahoma"/>
              </a:rPr>
              <a:t>contribute to the creation and completion of a </a:t>
            </a:r>
            <a:r>
              <a:rPr b="1" i="1" lang="en-US" sz="2400" spc="-1" strike="noStrike">
                <a:solidFill>
                  <a:srgbClr val="ccffcc"/>
                </a:solidFill>
                <a:latin typeface="Tahoma"/>
              </a:rPr>
              <a:t>single market</a:t>
            </a:r>
            <a:r>
              <a:rPr b="0" i="1" lang="en-US" sz="2400" spc="-1" strike="noStrike">
                <a:solidFill>
                  <a:srgbClr val="ccffcc"/>
                </a:solidFill>
                <a:latin typeface="Tahoma"/>
              </a:rPr>
              <a:t> for goods, services and energy, as well as the further </a:t>
            </a:r>
            <a:r>
              <a:rPr b="1" i="1" lang="en-US" sz="2400" spc="-1" strike="noStrike">
                <a:solidFill>
                  <a:srgbClr val="ccffcc"/>
                </a:solidFill>
                <a:latin typeface="Tahoma"/>
              </a:rPr>
              <a:t>integration of the financial marke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rassemble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brings together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écideur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influents de la société civile européen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fluential leader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f the European civil societ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hommes d’affaires, banquiers, universitaires, hauts fonctionnaires, responsables polit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businessmen, bankers, academics, high civil servants, politic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se veu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wants to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au service de la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nstruction européenn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serve 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European project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  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* organise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ébat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sur de grands sujets europé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organizes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debate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n the great European the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  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* publie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ocument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sur des problèmes d’actuali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publishes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document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n topical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agi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acts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2000" y="1981080"/>
            <a:ext cx="72784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en tout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indépendanc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à l’égard des intérêts privés et des pouvoirs publ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in complet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dependance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f private interests or public auth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7:04:53Z</dcterms:created>
  <dc:creator>PC</dc:creator>
  <dc:description/>
  <dc:language>en-US</dc:language>
  <cp:lastModifiedBy>PC</cp:lastModifiedBy>
  <dcterms:modified xsi:type="dcterms:W3CDTF">2007-01-11T09:25:19Z</dcterms:modified>
  <cp:revision>380</cp:revision>
  <dc:subject/>
  <dc:title>Ligue Européenne de Coopération Economique European League for Economic Cooperation</dc:title>
</cp:coreProperties>
</file>