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0115-648B-441B-B9AC-4AD9082E1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1- in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10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11- structure: comités nation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12- structure: Conseil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13- structure: com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14- présidents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15- présidents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16- Yvonne de Wergifo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17- com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18- Mouvement Europé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19- personnalités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2- 1946-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20- personnalités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21- personnalités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22- personnalités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23-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24- publications: financ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25- publications: économique et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26- publications: 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27- publications: infrastructures/envir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28- publications: élargiss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29- publications: institutio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3- fondat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30- Cahier Boë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31- Cahier Boël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32- Cahier Boël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33-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34- w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35- 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4- «La Ligue c’est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5- mission 19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6- mission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7- «La Ligue rassemble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8- «La Ligue se veut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9- «La Ligue agit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E861-88CC-4780-9465-40FC84D6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7AC3-B317-417A-A551-89FD024B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9F58-1224-4FCB-8141-18D8ACD3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8565-AB1B-4BB6-8797-49F223D9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EF54-FBDF-4D94-A7BC-3655C45A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2AB9-B032-42BF-BCDD-5D4DC8F3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EFFB-813F-4F72-8059-BC41F630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E70F-C2F4-4FAA-8511-19561B5B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6CBE-7F2F-44E7-8533-A6DB118D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7633-DDA6-4AFD-86C9-51C55F98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94AF-938A-47BC-B502-767BB748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C5EB-1E90-4B4A-9A6E-EAA38C0D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CD08-A477-41E1-9BFA-CA6DB303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788D-BDE2-44AC-A8D0-AB88718A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151C-2B2C-4CFB-839D-383D670E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BDEE-DC56-4F69-B0AC-E6DAF5E4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8556-01E3-424F-A2EE-DF7C4C0B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E187-FFE7-4F7E-BF1E-91775F0D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57B9-4E60-4C22-BEC6-F7FF19BD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86FD-FE08-4D0D-93D8-D45C34EE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EA20-CE6D-487D-A53F-234A31DB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0272-DD6A-46E0-8A36-512D36D4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ACB6-C06F-4642-8DD4-E9658163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0C55-AF76-40CD-91FB-AF06196D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06C9-F10D-473C-9B6B-D1FEB143D01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FCEA-211A-4066-9216-28393C7B94B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404640"/>
            <a:ext cx="7826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99ccff"/>
                </a:solidFill>
                <a:latin typeface="Tahoma"/>
              </a:rPr>
              <a:t>Ligue Européenne de</a:t>
            </a:r>
            <a:br>
              <a:rPr sz="4000"/>
            </a:br>
            <a:r>
              <a:rPr b="1" lang="fr-BE" sz="4000" spc="-1" strike="noStrike">
                <a:solidFill>
                  <a:srgbClr val="99ccff"/>
                </a:solidFill>
                <a:latin typeface="Tahoma"/>
              </a:rPr>
              <a:t>Coopération Économique</a:t>
            </a:r>
            <a:br>
              <a:rPr sz="4000"/>
            </a:br>
            <a:r>
              <a:rPr b="1" lang="fr-BE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BE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BE" sz="40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i="1" lang="fr-BE" sz="4000" spc="-1" strike="noStrike">
                <a:solidFill>
                  <a:srgbClr val="ccffcc"/>
                </a:solidFill>
                <a:latin typeface="Tahoma"/>
              </a:rPr>
              <a:t>European League for</a:t>
            </a:r>
            <a:br>
              <a:rPr sz="4000"/>
            </a:br>
            <a:r>
              <a:rPr b="1" i="1" lang="fr-BE" sz="4000" spc="-1" strike="noStrike">
                <a:solidFill>
                  <a:srgbClr val="ccffcc"/>
                </a:solidFill>
                <a:latin typeface="Tahoma"/>
              </a:rPr>
              <a:t>	</a:t>
            </a:r>
            <a:r>
              <a:rPr b="1" i="1" lang="fr-BE" sz="4000" spc="-1" strike="noStrike">
                <a:solidFill>
                  <a:srgbClr val="ccffcc"/>
                </a:solidFill>
                <a:latin typeface="Tahoma"/>
              </a:rPr>
              <a:t>	</a:t>
            </a:r>
            <a:r>
              <a:rPr b="1" i="1" lang="fr-BE" sz="4000" spc="-1" strike="noStrike">
                <a:solidFill>
                  <a:srgbClr val="ccffcc"/>
                </a:solidFill>
                <a:latin typeface="Tahoma"/>
              </a:rPr>
              <a:t>Economic Coopera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23640" y="4220640"/>
            <a:ext cx="856908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99ccff"/>
                </a:solidFill>
                <a:latin typeface="Tahoma"/>
              </a:rPr>
              <a:t>60</a:t>
            </a:r>
            <a:r>
              <a:rPr b="1" lang="fr-BE" sz="4000" spc="-1" strike="noStrike" baseline="30000">
                <a:solidFill>
                  <a:srgbClr val="99ccff"/>
                </a:solidFill>
                <a:latin typeface="Tahoma"/>
              </a:rPr>
              <a:t>me</a:t>
            </a:r>
            <a:r>
              <a:rPr b="1" lang="fr-BE" sz="4000" spc="-1" strike="noStrike">
                <a:solidFill>
                  <a:srgbClr val="99ccff"/>
                </a:solidFill>
                <a:latin typeface="Tahoma"/>
              </a:rPr>
              <a:t> anniversai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4000" spc="-1" strike="noStrike">
                <a:solidFill>
                  <a:srgbClr val="ccffcc"/>
                </a:solidFill>
                <a:latin typeface="Tahoma"/>
              </a:rPr>
              <a:t>60</a:t>
            </a:r>
            <a:r>
              <a:rPr b="1" i="1" lang="fr-BE" sz="4000" spc="-1" strike="noStrike" baseline="30000">
                <a:solidFill>
                  <a:srgbClr val="ccffcc"/>
                </a:solidFill>
                <a:latin typeface="Tahoma"/>
              </a:rPr>
              <a:t>th</a:t>
            </a:r>
            <a:r>
              <a:rPr b="1" i="1" lang="fr-BE" sz="4000" spc="-1" strike="noStrike">
                <a:solidFill>
                  <a:srgbClr val="ccffcc"/>
                </a:solidFill>
                <a:latin typeface="Tahoma"/>
              </a:rPr>
              <a:t> annivers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ffcc"/>
                </a:solidFill>
                <a:latin typeface="Verdana"/>
              </a:rPr>
              <a:t>                </a:t>
            </a:r>
            <a:r>
              <a:rPr b="1" i="1" lang="en-US" sz="800" spc="-1" strike="noStrike">
                <a:solidFill>
                  <a:srgbClr val="0066ff"/>
                </a:solidFill>
                <a:latin typeface="Verdana"/>
              </a:rPr>
              <a:t>© A. Bandin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Sa structure ...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Its structure ..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92000" y="1844640"/>
            <a:ext cx="6551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  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les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comités nationau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   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the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national se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le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Conseil Cent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    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the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Central Counc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les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commissions de trava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    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the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working commis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Comités nationaux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National section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forment un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réseau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, base de la Lig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form a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network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, basis of ELE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organisent des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activités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pour leurs memb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organize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activities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 for their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prennent en charge des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projets europé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ccffcc"/>
                </a:solidFill>
                <a:latin typeface="Tahoma"/>
              </a:rPr>
              <a:t>take responsibility for </a:t>
            </a:r>
            <a:r>
              <a:rPr b="1" i="1" lang="en-GB" sz="2400" spc="-1" strike="noStrike">
                <a:solidFill>
                  <a:srgbClr val="ccffcc"/>
                </a:solidFill>
                <a:latin typeface="Tahoma"/>
              </a:rPr>
              <a:t>European proj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envoient des délégués aux réunions de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commis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send delegates to the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commissions’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 meet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Conseil Central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Central Council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8066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instance dirige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ccffcc"/>
                </a:solidFill>
                <a:latin typeface="Tahoma"/>
              </a:rPr>
              <a:t>      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managing bo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réunit les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présidents des comités nationau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  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gathers together the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national sections’ presi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et des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membres individu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       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choisis pour leur engagement europé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  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and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individual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     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selected for their European commi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Commissions de travail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Working commission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989000"/>
            <a:ext cx="79930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Agriculture &amp; Société</a:t>
            </a: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 /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Agriculture &amp; Socie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Économique et Sociale</a:t>
            </a: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 /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Economic &amp; So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Infrastruc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Voisinage </a:t>
            </a: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/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Neighbourh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Méditerranée</a:t>
            </a: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 /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Mediterrane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Monétaire</a:t>
            </a: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 /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Monet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qui proposent des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prises de pos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which present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positions pa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Les présidents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The president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82640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ul van ZEELA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ésident 1946 – 194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ieter KERSTE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ésident 195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né BOË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ésident 1951 – 198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Jean-Charles SNOY et d'OPPU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ésident 1982 – 198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995640" y="1916280"/>
            <a:ext cx="1247760" cy="1695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32000" y="4581360"/>
            <a:ext cx="1487520" cy="1865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076720" y="4797360"/>
            <a:ext cx="162720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836280"/>
            <a:ext cx="77533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aniel CARDON de LICHTBU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ésident 1985 – 199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erdinand CHAFFA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ésident 2000 – 20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ton van ROSS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ésident 2006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1901880" cy="2378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516720" y="2708280"/>
            <a:ext cx="1609560" cy="2236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924360" y="4724280"/>
            <a:ext cx="1573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BE" sz="3200" spc="-1" strike="noStrike">
                <a:solidFill>
                  <a:srgbClr val="ccffcc"/>
                </a:solidFill>
                <a:latin typeface="Tahoma"/>
              </a:rPr>
              <a:t>Yvonne de Wergifosse</a:t>
            </a:r>
            <a:br>
              <a:rPr sz="2400"/>
            </a:b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ccff"/>
                </a:solidFill>
                <a:latin typeface="Tahoma"/>
              </a:rPr>
              <a:t>Secrétaire général de la Ligue</a:t>
            </a:r>
            <a:br>
              <a:rPr sz="2400"/>
            </a:br>
            <a:r>
              <a:rPr b="1" lang="en-US" sz="2400" spc="-1" strike="noStrike">
                <a:solidFill>
                  <a:srgbClr val="99ccff"/>
                </a:solidFill>
                <a:latin typeface="Tahoma"/>
              </a:rPr>
              <a:t> 1962 </a:t>
            </a:r>
            <a:r>
              <a:rPr b="1" lang="en-US" sz="2400" spc="-1" strike="noStrike">
                <a:solidFill>
                  <a:srgbClr val="99cc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99ccff"/>
                </a:solidFill>
                <a:latin typeface="Tahoma"/>
              </a:rPr>
              <a:t> 1988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53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Ligue, et je m'en réjouis, a enc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 pain sur la planch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tes-vous bien d'ailleurs que lors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'ai eu 60 ans, comme la Lig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jourd'hui, je ne songeais pas à 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raite: je me suis occupée de la Lig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dant plus de quinze ans encore!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(novembre 200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195444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Tahoma"/>
              </a:rPr>
              <a:t>Les premiers comités nationaux</a:t>
            </a:r>
            <a:br>
              <a:rPr sz="3200"/>
            </a:br>
            <a:r>
              <a:rPr b="1" i="1" lang="en-US" sz="3200" spc="-1" strike="noStrike">
                <a:solidFill>
                  <a:srgbClr val="ccffcc"/>
                </a:solidFill>
                <a:latin typeface="Tahoma"/>
              </a:rPr>
              <a:t>The first national section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68000" y="1916280"/>
            <a:ext cx="6342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946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lgique /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Belgi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de Bretagne /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Great Brita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uxembour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948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ys-Bas /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Netherlan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950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lemagne /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alie /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951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utriche /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Austr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956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pagne /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Spa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959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isse /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Switzerla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962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ède /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965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vège /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Norw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1</a:t>
            </a:r>
            <a:r>
              <a:rPr b="1" lang="fr-BE" sz="3200" spc="-1" strike="noStrike">
                <a:solidFill>
                  <a:srgbClr val="ccffcc"/>
                </a:solidFill>
                <a:latin typeface="Tahoma"/>
              </a:rPr>
              <a:t>9</a:t>
            </a: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4</a:t>
            </a:r>
            <a:r>
              <a:rPr b="1" lang="fr-BE" sz="3200" spc="-1" strike="noStrike">
                <a:solidFill>
                  <a:srgbClr val="ccffcc"/>
                </a:solidFill>
                <a:latin typeface="Tahoma"/>
              </a:rPr>
              <a:t>8</a:t>
            </a: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La Haye</a:t>
            </a: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 / </a:t>
            </a: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The Hagu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58560" y="1981080"/>
            <a:ext cx="770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La Ligue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membre fondateur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MOUVEMENT EUROPEEN INTERNAT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ELEC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founder member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 of t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EUROPEAN MOVEMENT INTERNAT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Quelques personnalités marquantes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Some outstanding peop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675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uxelles, juin 195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"Le marché commun, facteur de prospérité sociale"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Conférence Internationale de la Lig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Paul KREB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ecrétaire général du comité alleman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? M. BECH (Luxembourg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inistre des Affaires Étrangèr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Paul van ZEELAND (Belgiqu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ondateur - Président d'honneur de la Ligu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Paul Henri SPAAK (Belgiqu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Edward BEDDINGTON-BEHRE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ésident du comité britanniqu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352908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99ccff"/>
                </a:solidFill>
                <a:latin typeface="Tahoma"/>
              </a:rPr>
              <a:t>1946</a:t>
            </a:r>
            <a:r>
              <a:rPr b="1" lang="fr-BE" sz="4400" spc="-1" strike="noStrike">
                <a:solidFill>
                  <a:srgbClr val="eaeaea"/>
                </a:solidFill>
                <a:latin typeface="Tahoma"/>
              </a:rPr>
              <a:t> - </a:t>
            </a:r>
            <a:r>
              <a:rPr b="1" lang="fr-BE" sz="4400" spc="-1" strike="noStrike">
                <a:solidFill>
                  <a:srgbClr val="ccffcc"/>
                </a:solidFill>
                <a:latin typeface="Tahoma"/>
              </a:rPr>
              <a:t>2006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6000" y="1981080"/>
            <a:ext cx="71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99ccff"/>
                </a:solidFill>
                <a:latin typeface="Tahoma"/>
              </a:rPr>
              <a:t>La Ligue Européenne fête soixante ans 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99ccff"/>
                </a:solidFill>
                <a:latin typeface="Tahoma"/>
              </a:rPr>
              <a:t>réflexion innovatrice</a:t>
            </a:r>
            <a:r>
              <a:rPr b="0" lang="fr-BE" sz="2800" spc="-1" strike="noStrike">
                <a:solidFill>
                  <a:srgbClr val="99ccff"/>
                </a:solidFill>
                <a:latin typeface="Tahoma"/>
              </a:rPr>
              <a:t> au service de 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99ccff"/>
                </a:solidFill>
                <a:latin typeface="Tahoma"/>
              </a:rPr>
              <a:t>cause européen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ccffcc"/>
                </a:solidFill>
                <a:latin typeface="Tahoma"/>
              </a:rPr>
              <a:t>ELEC celebrates sixty years of </a:t>
            </a:r>
            <a:r>
              <a:rPr b="1" i="1" lang="fr-BE" sz="2800" spc="-1" strike="noStrike">
                <a:solidFill>
                  <a:srgbClr val="ccffcc"/>
                </a:solidFill>
                <a:latin typeface="Tahoma"/>
              </a:rPr>
              <a:t>innov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ccffcc"/>
                </a:solidFill>
                <a:latin typeface="Tahoma"/>
              </a:rPr>
              <a:t>contribution</a:t>
            </a:r>
            <a:r>
              <a:rPr b="0" i="1" lang="fr-BE" sz="2800" spc="-1" strike="noStrike">
                <a:solidFill>
                  <a:srgbClr val="ccffcc"/>
                </a:solidFill>
                <a:latin typeface="Tahoma"/>
              </a:rPr>
              <a:t> to the </a:t>
            </a:r>
            <a:r>
              <a:rPr b="1" i="1" lang="fr-BE" sz="2800" spc="-1" strike="noStrike">
                <a:solidFill>
                  <a:srgbClr val="ccffcc"/>
                </a:solidFill>
                <a:latin typeface="Tahoma"/>
              </a:rPr>
              <a:t>European ca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8200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ussels, June 195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common market to promote social prosperity“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nternational Conference of ELE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 Edward BEDDINGTON-BEHRE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esident of the British sec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   René BOËL, President of ELE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   Lucien SERM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Secretary General of the French sec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   Hermann AB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      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President of the German sec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 Edmond GISCARD d’ESTA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 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esident 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of the French sec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4246560" cy="34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42560" y="198108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uxelles, octobre 196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"Les tâches prochaines de l'Europe“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onférence Internationa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 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Walter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HALLSTEI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ésident de la Commission de la C.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fr-FR" sz="16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   René BOËL, Président de la Ligu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fr-FR" sz="16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 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dward 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BEDDINGTON-BEHRE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           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Président du comité britanniqu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600" spc="-1" strike="noStrike">
                <a:solidFill>
                  <a:srgbClr val="ccff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453708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152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Brussels, October 196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fr-FR" sz="1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anniversa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 Otmar EMMINGER - President of the Bundesban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 Herman ABS - President 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of the German sec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 Louis CAMU - President 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of the Belgian sec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 Edward BEDDINGTON-BEHRE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     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esident 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of the British sec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 Henry TIARKS (Great Britai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0"/>
          <a:ext cx="182520" cy="15559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55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427640" y="4076640"/>
            <a:ext cx="4500360" cy="25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99ccff"/>
                </a:solidFill>
                <a:latin typeface="Tahoma"/>
              </a:rPr>
              <a:t>PUBLICATION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8483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99ccff"/>
                </a:solidFill>
                <a:latin typeface="Tahoma"/>
              </a:rPr>
              <a:t>Depuis 1946, la Ligue apporte au débat européen u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99ccff"/>
                </a:solidFill>
                <a:latin typeface="Tahoma"/>
              </a:rPr>
              <a:t>contribution thématique novatrice</a:t>
            </a:r>
            <a:r>
              <a:rPr b="0" lang="fr-BE" sz="2000" spc="-1" strike="noStrike">
                <a:solidFill>
                  <a:srgbClr val="99ccff"/>
                </a:solidFill>
                <a:latin typeface="Tahoma"/>
              </a:rPr>
              <a:t> sur les ques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ccffcc"/>
                </a:solidFill>
                <a:latin typeface="Tahoma"/>
              </a:rPr>
              <a:t>Since 1946, ELEC has brought to the European debate 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ccffcc"/>
                </a:solidFill>
                <a:latin typeface="Tahoma"/>
              </a:rPr>
              <a:t>innovative topical contribution</a:t>
            </a:r>
            <a:r>
              <a:rPr b="0" i="1" lang="fr-BE" sz="2000" spc="-1" strike="noStrike">
                <a:solidFill>
                  <a:srgbClr val="ccffcc"/>
                </a:solidFill>
                <a:latin typeface="Tahoma"/>
              </a:rPr>
              <a:t> on such matters 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1" lang="fr-BE" sz="18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1" lang="fr-BE" sz="1800" spc="-1" strike="noStrike">
                <a:solidFill>
                  <a:srgbClr val="99ccff"/>
                </a:solidFill>
                <a:latin typeface="Tahoma"/>
              </a:rPr>
              <a:t>financières</a:t>
            </a:r>
            <a:r>
              <a:rPr b="1" lang="fr-BE" sz="18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/ </a:t>
            </a:r>
            <a:r>
              <a:rPr b="1" i="1" lang="fr-BE" sz="1800" spc="-1" strike="noStrike">
                <a:solidFill>
                  <a:srgbClr val="ccffcc"/>
                </a:solidFill>
                <a:latin typeface="Tahoma"/>
              </a:rPr>
              <a:t>financ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1" lang="fr-BE" sz="18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1" lang="fr-BE" sz="1800" spc="-1" strike="noStrike">
                <a:solidFill>
                  <a:srgbClr val="99ccff"/>
                </a:solidFill>
                <a:latin typeface="Tahoma"/>
              </a:rPr>
              <a:t>économiques et sociales</a:t>
            </a:r>
            <a:r>
              <a:rPr b="1" lang="fr-BE" sz="18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i="1" lang="fr-B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fr-BE" sz="1800" spc="-1" strike="noStrike">
                <a:solidFill>
                  <a:srgbClr val="ccffcc"/>
                </a:solidFill>
                <a:latin typeface="Tahoma"/>
              </a:rPr>
              <a:t>economic and soc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1" lang="fr-BE" sz="18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1" lang="fr-BE" sz="1800" spc="-1" strike="noStrike">
                <a:solidFill>
                  <a:srgbClr val="99ccff"/>
                </a:solidFill>
                <a:latin typeface="Tahoma"/>
              </a:rPr>
              <a:t>agricul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1" lang="fr-BE" sz="18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1" lang="fr-BE" sz="1800" spc="-1" strike="noStrike">
                <a:solidFill>
                  <a:srgbClr val="99ccff"/>
                </a:solidFill>
                <a:latin typeface="Tahoma"/>
              </a:rPr>
              <a:t>infrastructu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1" lang="fr-BE" sz="18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1" lang="fr-BE" sz="1800" spc="-1" strike="noStrike">
                <a:solidFill>
                  <a:srgbClr val="99ccff"/>
                </a:solidFill>
                <a:latin typeface="Tahoma"/>
              </a:rPr>
              <a:t>environnement </a:t>
            </a: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i="1" lang="fr-B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fr-BE" sz="1800" spc="-1" strike="noStrike">
                <a:solidFill>
                  <a:srgbClr val="ccffcc"/>
                </a:solidFill>
                <a:latin typeface="Tahoma"/>
              </a:rPr>
              <a:t>environmen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1" lang="fr-BE" sz="18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1" lang="fr-BE" sz="1800" spc="-1" strike="noStrike">
                <a:solidFill>
                  <a:srgbClr val="99ccff"/>
                </a:solidFill>
                <a:latin typeface="Tahoma"/>
              </a:rPr>
              <a:t>élargissement</a:t>
            </a:r>
            <a:r>
              <a:rPr b="1" lang="fr-BE" sz="18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i="1" lang="fr-BE" sz="1800" spc="-1" strike="noStrike">
                <a:solidFill>
                  <a:srgbClr val="ccffcc"/>
                </a:solidFill>
                <a:latin typeface="Tahoma"/>
              </a:rPr>
              <a:t> enlar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1" lang="fr-BE" sz="18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1" lang="fr-BE" sz="1800" spc="-1" strike="noStrike">
                <a:solidFill>
                  <a:srgbClr val="99ccff"/>
                </a:solidFill>
                <a:latin typeface="Tahoma"/>
              </a:rPr>
              <a:t>institutionnel</a:t>
            </a:r>
            <a:r>
              <a:rPr b="1" lang="fr-BE" sz="18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i="1" lang="fr-BE" sz="1800" spc="-1" strike="noStrike">
                <a:solidFill>
                  <a:srgbClr val="ccffcc"/>
                </a:solidFill>
                <a:latin typeface="Tahoma"/>
              </a:rPr>
              <a:t> instituti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ccff"/>
                </a:solidFill>
                <a:latin typeface="Tahoma"/>
              </a:rPr>
              <a:t>= 79 publications thématiques et 49 rappor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ccffcc"/>
                </a:solidFill>
                <a:latin typeface="Tahoma"/>
              </a:rPr>
              <a:t>= 79 thematic publications and 49 repor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12000" y="4221000"/>
            <a:ext cx="291600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99ccff"/>
                </a:solidFill>
                <a:latin typeface="Tahoma"/>
              </a:rPr>
              <a:t>questions </a:t>
            </a: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financières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financial</a:t>
            </a:r>
            <a:r>
              <a:rPr b="0" i="1" lang="fr-BE" sz="3200" spc="-1" strike="noStrike">
                <a:solidFill>
                  <a:srgbClr val="ccffcc"/>
                </a:solidFill>
                <a:latin typeface="Tahoma"/>
              </a:rPr>
              <a:t> matter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Un système de convertibilité des monna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européennes entre elles </a:t>
            </a:r>
            <a:r>
              <a:rPr b="0" lang="fr-BE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1949</a:t>
            </a:r>
            <a:r>
              <a:rPr b="0" lang="fr-BE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Vers la liberté des transferts internationaux 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devises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50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a reconstruction monétaire de l'Europe et sa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    contribution au progrès économique et so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The Monetary Reconstruction of Europe and its Contribution 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conomic and Social Progress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53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a fiscalité indirecte dans le marché commun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59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291600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99ccff"/>
                </a:solidFill>
                <a:latin typeface="Tahoma"/>
              </a:rPr>
              <a:t>questions </a:t>
            </a: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économiques et sociales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economic and social</a:t>
            </a:r>
            <a:r>
              <a:rPr b="0" i="1" lang="fr-BE" sz="3200" spc="-1" strike="noStrike">
                <a:solidFill>
                  <a:srgbClr val="ccffcc"/>
                </a:solidFill>
                <a:latin typeface="Tahoma"/>
              </a:rPr>
              <a:t> matter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a mobilité des travailleurs en Europe occidentale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51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e marché commun facteur de prospérité sociale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56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The Common Market to Promote Social Prospe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El mercado comun factor de prosperidad so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Intégration européenne et sécurité sociale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57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uropean Integration and Social Secu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La integracion europea y la seguridad so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Migration des travailleurs et des activités 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sociétés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90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Migration of Workers and Company Oper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24382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Agri</a:t>
            </a:r>
            <a:r>
              <a:rPr b="1" lang="fr-BE" sz="3200" spc="-1" strike="noStrike">
                <a:solidFill>
                  <a:srgbClr val="ccffcc"/>
                </a:solidFill>
                <a:latin typeface="Tahoma"/>
              </a:rPr>
              <a:t>cultur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0720"/>
            <a:ext cx="806436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'agriculture dans la formation du marché commun européen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52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The Role of Agriculture in the Formation of a Single European Mark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 politique agricole dans la Communauté Economique Européenne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96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a réforme de la PAC et ses répercuss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sur le commerce international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86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The Reform of the CAP and i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Implications for International Tra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Future for European Agricultur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990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651640" y="3933720"/>
            <a:ext cx="3276360" cy="24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Infra</a:t>
            </a:r>
            <a:r>
              <a:rPr b="1" lang="fr-BE" sz="3200" spc="-1" strike="noStrike">
                <a:solidFill>
                  <a:srgbClr val="ccffcc"/>
                </a:solidFill>
                <a:latin typeface="Tahoma"/>
              </a:rPr>
              <a:t>structures</a:t>
            </a:r>
            <a:br>
              <a:rPr sz="3200"/>
            </a:b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Environnement </a:t>
            </a: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environmen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'organisation des transports en Europe occidentale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51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a poiltique commune des transports en Europe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69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The common Policy for Transport in Euro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La politica comun de transportes en Europ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a dimension européenne de la prot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de l'environnement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87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The European Dimension in Environmental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     Prot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4000" y="4076640"/>
            <a:ext cx="369540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Élargissement</a:t>
            </a:r>
            <a:r>
              <a:rPr b="0" lang="fr-BE" sz="32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fr-BE" sz="3200" spc="-1" strike="noStrike">
                <a:solidFill>
                  <a:srgbClr val="eaeaea"/>
                </a:solidFill>
                <a:latin typeface="Tahoma"/>
              </a:rPr>
              <a:t>/</a:t>
            </a:r>
            <a:r>
              <a:rPr b="0" lang="fr-BE" sz="32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enlargemen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es pays de l'Europe en voie de développement et l'intégr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européenne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61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The Developing Countries of Europe and European Integr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Los paises de Europa en vias de desarrollo y la integracion europ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Tahoma"/>
              </a:rPr>
              <a:t>Les relations commerciales Est/Ouest (</a:t>
            </a: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1965</a:t>
            </a:r>
            <a:r>
              <a:rPr b="0" lang="fr-BE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ffffff"/>
                </a:solidFill>
                <a:latin typeface="Tahoma"/>
              </a:rPr>
              <a:t>East-West Commercial Rel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oblèmes institutionnels posés p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’élargissement des C.E.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67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Institutional Problems Arising from 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Enlargement of the E.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443640" y="3716280"/>
            <a:ext cx="2324160" cy="28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99ccff"/>
                </a:solidFill>
                <a:latin typeface="Tahoma"/>
              </a:rPr>
              <a:t>questions </a:t>
            </a: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institutionnelles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institutional</a:t>
            </a:r>
            <a:r>
              <a:rPr b="0" i="1" lang="fr-BE" sz="3200" spc="-1" strike="noStrike">
                <a:solidFill>
                  <a:srgbClr val="ccffcc"/>
                </a:solidFill>
                <a:latin typeface="Tahoma"/>
              </a:rPr>
              <a:t> matter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8244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our une réforme du fonctionnement des institutions des C.E.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74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For a Reform of the Functionning of the E.C. Institu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a relance économique en Europe - Le rô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imordial du Parlement européen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78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 new Economic Impetus for Europe - Th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Fundamental Role of the E.P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'Europe des années quatre-vingts - Le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combat de la LECE (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1981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urope in the Eighties - ELEC in 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261936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1946 - les fondateurs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1946 - the founding father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280" y="1980720"/>
            <a:ext cx="76388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ff"/>
                </a:solidFill>
                <a:latin typeface="Tahoma"/>
              </a:rPr>
              <a:t>de grands décideurs de leur temps 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ccffcc"/>
                </a:solidFill>
                <a:latin typeface="Tahoma"/>
              </a:rPr>
              <a:t>key leaders in their times 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Joseph RETINGER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(Pologn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cien Conseiller du Général Sikorsk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Délégué Général aux Relations Extérieu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du Mouvement Europé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fr-FR" sz="1800" spc="-1" strike="noStrike">
                <a:solidFill>
                  <a:srgbClr val="ffcccc"/>
                </a:solidFill>
                <a:latin typeface="Tahoma"/>
              </a:rPr>
              <a:t>Initiateur de la L.E.C.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Paul VAN ZEELAND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(Belgiqu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Ancien Premier Minist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lang="fr-FR" sz="1800" spc="-1" strike="noStrike">
                <a:solidFill>
                  <a:srgbClr val="ffcccc"/>
                </a:solidFill>
                <a:latin typeface="Tahoma"/>
              </a:rPr>
              <a:t>Fondateur et Président d'honneu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Pieter KERSTENS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(Pays-Ba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Sénateur, ancien Ministre des Affaires Économiqu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372360" y="3141720"/>
            <a:ext cx="2030400" cy="22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ccffcc"/>
                </a:solidFill>
                <a:latin typeface="Tahoma"/>
              </a:rPr>
              <a:t>Cahiers Boë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42920" y="198108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Depuis</a:t>
            </a: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 /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since  </a:t>
            </a:r>
            <a:r>
              <a:rPr b="1" i="1" lang="fr-BE" sz="2400" spc="-1" strike="noStrike">
                <a:solidFill>
                  <a:srgbClr val="99ccff"/>
                </a:solidFill>
                <a:latin typeface="Tahoma"/>
              </a:rPr>
              <a:t>1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9</a:t>
            </a:r>
            <a:r>
              <a:rPr b="1" i="1" lang="fr-BE" sz="2400" spc="-1" strike="noStrike">
                <a:solidFill>
                  <a:srgbClr val="99ccff"/>
                </a:solidFill>
                <a:latin typeface="Tahoma"/>
              </a:rPr>
              <a:t>9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99ccff"/>
                </a:solidFill>
                <a:latin typeface="Tahoma"/>
              </a:rPr>
              <a:t>Publications sur des questions d’actualité européen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99ccff"/>
                </a:solidFill>
                <a:latin typeface="Tahoma"/>
              </a:rPr>
              <a:t>Éditées à la mémoire de René Boë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99ccff"/>
                </a:solidFill>
                <a:latin typeface="Tahoma"/>
              </a:rPr>
              <a:t>Président de la Ligue (1951-19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ccffcc"/>
                </a:solidFill>
                <a:latin typeface="Tahoma"/>
              </a:rPr>
              <a:t>Publications on topical European iss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ccffcc"/>
                </a:solidFill>
                <a:latin typeface="Tahoma"/>
              </a:rPr>
              <a:t>edited to honour the memory of René Boë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ccffcc"/>
                </a:solidFill>
                <a:latin typeface="Tahoma"/>
              </a:rPr>
              <a:t>ELEC President (1951-19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227016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Cahiers Boë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637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° 1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Enviro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° 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Transition Strategies towa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conomic and Monetary Un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° 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Institution Convergence: a Prerequisi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Monetary Un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° 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The Future of Central Euro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n° 5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Un nouveau modèle social europé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A New European Social Mode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270540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71280" y="980640"/>
            <a:ext cx="8172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n° 6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Dimension européenne du partenariat euro-méditerranéen 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European dimension of the Euro-Mediterranean Part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° 7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Small and Medium-Sized Enterprises in th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untries of Central and Eastern Euro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° 8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The Euro: Next Steps to Suc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n° 9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The Enlarged EU: a Wider Role? /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L'Un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Européenne élargie: un rôle plus larg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° 10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The Euro: Required Steps to Suc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° 11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European Economic Governance revisi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n° 12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Financial Supervision in Euro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24350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Et maintenant ...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and now ..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Nous nous tournons, avec vous, vers les soixante prochaines années 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We look forward, with you, to the next sixty years 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Si vous voulez en savoir plus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If you want to learn mor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2421000"/>
            <a:ext cx="75438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99ccff"/>
                </a:solidFill>
                <a:latin typeface="Tahoma"/>
              </a:rPr>
              <a:t>Tous ces documents sont disponibles sur notre si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ccffcc"/>
                </a:solidFill>
                <a:latin typeface="Tahoma"/>
              </a:rPr>
              <a:t>All these documents are available on our web si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99ccff"/>
                </a:solidFill>
                <a:latin typeface="Tahoma"/>
              </a:rPr>
              <a:t>Ligue Européenne de Coopération Économ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ccffcc"/>
                </a:solidFill>
                <a:latin typeface="Tahoma"/>
              </a:rPr>
              <a:t>European League for Economic Cooper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348000" y="3716280"/>
            <a:ext cx="3105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erdana"/>
              </a:rPr>
              <a:t>www.elec-lece.eu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6104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99ccff"/>
                </a:solidFill>
                <a:latin typeface="Tahoma"/>
              </a:rPr>
              <a:t>F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200" spc="-1" strike="noStrike">
                <a:solidFill>
                  <a:srgbClr val="ccffcc"/>
                </a:solidFill>
                <a:latin typeface="Tahoma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La Ligue c’est ...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ELEC is ..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un lieu de réflexion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  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a think-tank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un club social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	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	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	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	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	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 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a social club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un réseau, un forum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	</a:t>
            </a: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	</a:t>
            </a: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  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a network, a forum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avant tout un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GROUPE de PRESSION INTELLECTU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  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above all an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INTELLECTUAL PRESSURE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753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La Ligue se donne pour mission ...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ELEC ‘s mission is ..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72800" y="1981080"/>
            <a:ext cx="745956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1</a:t>
            </a:r>
            <a:r>
              <a:rPr b="1" lang="fr-BE" sz="3200" spc="-1" strike="noStrike">
                <a:solidFill>
                  <a:srgbClr val="ccffcc"/>
                </a:solidFill>
                <a:latin typeface="Tahoma"/>
              </a:rPr>
              <a:t>9</a:t>
            </a: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4</a:t>
            </a:r>
            <a:r>
              <a:rPr b="1" lang="fr-BE" sz="3200" spc="-1" strike="noStrike">
                <a:solidFill>
                  <a:srgbClr val="ccffcc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promouvoir la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coopération économique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afin de construire les fondements de la prospérité et offrir la possibilité de recréer une richesse collective dans une Europe divisée et ruinée par la guer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to foster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economic cooperation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 with a view to build prosperity and offer opportunities to create collective wealth in a war torn and fragmented Euro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753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600" spc="-1" strike="noStrike">
                <a:solidFill>
                  <a:srgbClr val="ccff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6000" y="1980720"/>
            <a:ext cx="749448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2</a:t>
            </a:r>
            <a:r>
              <a:rPr b="1" lang="fr-BE" sz="3200" spc="-1" strike="noStrike">
                <a:solidFill>
                  <a:srgbClr val="ccffcc"/>
                </a:solidFill>
                <a:latin typeface="Tahoma"/>
              </a:rPr>
              <a:t>0</a:t>
            </a: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0</a:t>
            </a:r>
            <a:r>
              <a:rPr b="1" lang="fr-BE" sz="3200" spc="-1" strike="noStrike">
                <a:solidFill>
                  <a:srgbClr val="ccffcc"/>
                </a:solidFill>
                <a:latin typeface="Tahoma"/>
              </a:rPr>
              <a:t>6</a:t>
            </a: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contribuer à la création et au parachèvement d'un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marché unique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pour les biens, les services, l'énergie, ainsi qu'à l'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intégration des marchés financi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to </a:t>
            </a:r>
            <a:r>
              <a:rPr b="0" i="1" lang="en-US" sz="2400" spc="-1" strike="noStrike">
                <a:solidFill>
                  <a:srgbClr val="ccffcc"/>
                </a:solidFill>
                <a:latin typeface="Tahoma"/>
              </a:rPr>
              <a:t>contribute to the creation and completion of a </a:t>
            </a:r>
            <a:r>
              <a:rPr b="1" i="1" lang="en-US" sz="2400" spc="-1" strike="noStrike">
                <a:solidFill>
                  <a:srgbClr val="ccffcc"/>
                </a:solidFill>
                <a:latin typeface="Tahoma"/>
              </a:rPr>
              <a:t>single market</a:t>
            </a:r>
            <a:r>
              <a:rPr b="0" i="1" lang="en-US" sz="2400" spc="-1" strike="noStrike">
                <a:solidFill>
                  <a:srgbClr val="ccffcc"/>
                </a:solidFill>
                <a:latin typeface="Tahoma"/>
              </a:rPr>
              <a:t> for goods, services and energy, as well as the further </a:t>
            </a:r>
            <a:r>
              <a:rPr b="1" i="1" lang="en-US" sz="2400" spc="-1" strike="noStrike">
                <a:solidFill>
                  <a:srgbClr val="ccffcc"/>
                </a:solidFill>
                <a:latin typeface="Tahoma"/>
              </a:rPr>
              <a:t>integration of the financial market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La Ligue rassemble ...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ELEC brings together ..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16000" y="1981080"/>
            <a:ext cx="802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des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décideurs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influents de la société civile européen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influential leaders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 of the European civil societ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hommes d’affaires, banquiers, universitaires, hauts fonctionnaires, responsables politiq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businessmen, bankers, academics, high civil servants, politic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La Ligue se veut ...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ELEC wants to ..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6756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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au service de la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construction européenne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  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serve the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European project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     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* organise des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débats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sur de grands sujets europé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       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organizes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debates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 on the great European the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      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* publie des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documents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sur des problèmes d’actualit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        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publishes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documents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 on topical probl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99ccff"/>
                </a:solidFill>
                <a:latin typeface="Tahoma"/>
              </a:rPr>
              <a:t>La Ligue agit ...</a:t>
            </a:r>
            <a:br>
              <a:rPr sz="3200"/>
            </a:br>
            <a:r>
              <a:rPr b="1" i="1" lang="fr-BE" sz="3200" spc="-1" strike="noStrike">
                <a:solidFill>
                  <a:srgbClr val="ccffcc"/>
                </a:solidFill>
                <a:latin typeface="Tahoma"/>
              </a:rPr>
              <a:t>ELEC acts ..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32000" y="1981080"/>
            <a:ext cx="727848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en toute </a:t>
            </a:r>
            <a:r>
              <a:rPr b="1" lang="fr-BE" sz="2400" spc="-1" strike="noStrike">
                <a:solidFill>
                  <a:srgbClr val="99ccff"/>
                </a:solidFill>
                <a:latin typeface="Tahoma"/>
              </a:rPr>
              <a:t>indépendance</a:t>
            </a:r>
            <a:r>
              <a:rPr b="0" lang="fr-BE" sz="2400" spc="-1" strike="noStrike">
                <a:solidFill>
                  <a:srgbClr val="99ccff"/>
                </a:solidFill>
                <a:latin typeface="Tahoma"/>
              </a:rPr>
              <a:t> à l’égard des intérêts privés et des pouvoirs publ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ccffcc"/>
                </a:solidFill>
                <a:latin typeface="Tahoma"/>
              </a:rPr>
              <a:t>   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in complete </a:t>
            </a:r>
            <a:r>
              <a:rPr b="1" i="1" lang="fr-BE" sz="2400" spc="-1" strike="noStrike">
                <a:solidFill>
                  <a:srgbClr val="ccffcc"/>
                </a:solidFill>
                <a:latin typeface="Tahoma"/>
              </a:rPr>
              <a:t>independance</a:t>
            </a:r>
            <a:r>
              <a:rPr b="0" i="1" lang="fr-BE" sz="2400" spc="-1" strike="noStrike">
                <a:solidFill>
                  <a:srgbClr val="ccffcc"/>
                </a:solidFill>
                <a:latin typeface="Tahoma"/>
              </a:rPr>
              <a:t> of private interests or public author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7:04:53Z</dcterms:created>
  <dc:creator>PC</dc:creator>
  <dc:description/>
  <dc:language>en-US</dc:language>
  <cp:lastModifiedBy>PC</cp:lastModifiedBy>
  <dcterms:modified xsi:type="dcterms:W3CDTF">2007-01-11T09:25:19Z</dcterms:modified>
  <cp:revision>380</cp:revision>
  <dc:subject/>
  <dc:title>Ligue Européenne de Coopération Economique European League for Economic Cooperation</dc:title>
</cp:coreProperties>
</file>